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24D-8CCC-4426-8E58-3CDB0B30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7D6-8248-4A0B-B84C-D530E65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334-EBCA-4508-8C4D-B0912F1F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C32-1FDC-4119-88B9-35A9AEE0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AE6-7557-4A36-A247-25CD2D0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947-919A-49DC-8BE1-4E7302E6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7A0-916A-43ED-868C-71E1B0F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F3B-6A59-418F-A16B-722712A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933-D8EB-43CC-80C1-DB548C6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499-54D3-4011-8837-4959FE2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721-FF61-4A48-9BA8-98A3073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953-C059-4291-8867-B142297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78DB-67A7-4BBE-A33E-43876F8BC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Weid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75136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410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people and for th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248000"/>
            <a:ext cx="350532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Reli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ria’s people are mostly Sunni – Muslim and very few others are Christian and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re supposed to pray five times a day, dawn, noon, afternoon, sunset, and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holy day is on Fridays, business are closed and sometimes close on Thursdays.  This makes Thursdays and Fridays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081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f Algeria use the dinar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572000" cy="1519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’s economy will improve with oil as one of the main exports by continuously bringing in money for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Algeria’s economy may decline with less or no sales of oil in the futur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finds an alternate source of fuel instead of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ria’s natural resource of oil runs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8120" y="2895480"/>
          <a:ext cx="247644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95480"/>
                    <a:ext cx="24764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’s coordinates are 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North and 3° East.  It is the second largest country in Africa and it’s capitol is Alg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11652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Relative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 is located in Northern Africa.  It borders the Mediterranean Sea and is between Morocco, Tunisia, Libya, Niger, Mali, Mauritania, Western Sah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54640" cy="51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population  is about 34,000,000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81% of the people speak Arab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370400" cy="33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7 – Algeria was made part of the Ottoman Empire by Barbaros Hayreddin Pasa and his brother Aru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established Algeria’s modern bound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ria was under the Ottoman Empire until the French col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985760" cy="266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 – France invaded Al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ook over the Ottoman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 was under the rule of France for 13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4419720" cy="29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ria’s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4 – Algerian War of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poll that resulted in a landslide vote for complet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, July 5 -  Algeria became independent from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10320" y="3352680"/>
            <a:ext cx="226548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government is Parliamentary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’s current leader is Abdelaziz Bouteflika who was elected on April 2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86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– 5 Year Term, Limited to Two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Head of Government Appointed By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 – Lower Chamber and Upper Ch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ria is a multi-part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4878360"/>
            <a:ext cx="2971800" cy="19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19:27Z</dcterms:created>
  <dc:creator>madisonweidner</dc:creator>
  <dc:description/>
  <dc:language>en-US</dc:language>
  <cp:lastModifiedBy>madisonweidner</cp:lastModifiedBy>
  <dcterms:modified xsi:type="dcterms:W3CDTF">2008-11-18T19:18:41Z</dcterms:modified>
  <cp:revision>26</cp:revision>
  <dc:subject/>
  <dc:title>Algeria</dc:title>
</cp:coreProperties>
</file>